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623-6A36-476C-93B9-42C39DF2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C87-6830-4E54-BB38-B504A267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7AB-1EE9-47E9-9130-F6462575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10E-2025-4D5D-8BE6-E509F5BB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6E62-D18D-42C5-B477-A90A60AE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61A3-6AE4-447D-9D53-672C3CB6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2F00-E8B5-456E-BC95-ED5EE047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1707-4D21-4C78-A551-C05EEECA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7B77-0914-435F-AB61-2DE1F53F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6E4A-25B9-467C-922F-C9E37423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D23E-18C3-46C6-99F0-8AC55DF5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26E-59B4-4A3C-86C5-1826321E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8623-7860-42C3-8325-C6220C7F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E889-86BE-4206-AF75-7F725B04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F758-7C0D-4FE2-AD29-36ECAAF7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1CB1-60B1-4D6A-B9B7-0D46609B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495F-4427-47B0-8157-FDD5A4C3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E45-A7CC-462B-B756-C67E199E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BEA-8208-4310-9294-A7EF998E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F11-5DD7-40DB-82E0-92582330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EEB-C6FC-4686-A8AB-B861EC6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39D-88D3-47EC-9B72-B14896BA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6E0-A10F-4AC3-83B5-A5F81340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7C2-EC83-4796-9DAB-2F565AA3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9370-B001-4725-AD81-0AA0B8D52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937A-9260-4E73-BB0F-BC2E8C722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urpose of grading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Heacox. 2002, Chapter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ing based on rigor: student cho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a grade of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the necessary evidence of of mastery of unit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 a grade of B or A level work involves students in more complexity, stretches thinking and asks students to extend learning to real life contexts(p.122)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</a:t>
            </a:r>
            <a:br>
              <a:rPr sz="4400"/>
            </a:br>
            <a:r>
              <a:rPr b="0" lang="en-US" sz="2700" spc="-1" strike="noStrike">
                <a:solidFill>
                  <a:srgbClr val="e5ffff"/>
                </a:solidFill>
                <a:latin typeface="Tahoma"/>
              </a:rPr>
              <a:t>Heacox p.123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you equalize time when students choose more or less time consuming projec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ly 10 may help you manage time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task that can be chosen is given a score of 2,4,6,o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udents select one project or several that add up to a score of 10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following criteria for tiering projects, assigning scores and calculating a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iteri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knowledge/ comprehension or application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20% of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application and or analy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40% of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analysis,evaluation, and or 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60% of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10 projects at analysis, evaluation or 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hibits greater complexity, depth or abstractness than do score 6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W project that reflects rigor rather than simply mor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100% of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an select several smaller proje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; one score 6 projects and two score 2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one score 6 project and one score  4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students can choose the challenging score 10 project and do just one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ing several smaller projects or one or two complex projects should result in students completing work in a similar time fr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 lines; students must choose from at least two categories ( not everything from score tw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each level are graded on quality criteria provide ahead of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udent must meet the standard for work to be considered A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entic Assessment: The Key to Unlocking Student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A. Baron, Floyd Bosch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99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l projects should be available to all stud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udents can think and learn at higher challenge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your criteria for quality work high, yet attainable. See pages 121, 122, and 123  for examp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ent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ing student performance 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asks that are relevant and useful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 life.  These methods include, but are not limited to, student portfolios, oral reports, and reflective journ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tudents and their parents feed back on learning pro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on the quality of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need to know and understand your expect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asks basic or advanced are  evaluated on whether or not they meet the quality criteria for that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tablishing Quality Cri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clear and con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language that students und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lect a high level of expec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invite less than the highest quality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 instead of “has fewer than four spelling errors,” say “uses correct spelling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you want , not what you do not w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to avoid sending false messages to students and par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we avoid inflating the grades of students who do less complex tas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fferentiated grades are just a consideration in your overall  gra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track of the differentiated 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ght the value of assign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differentiated assignment may have a point value less than that of a test for all stud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 not grade everything yourself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may assess their own or a peer’s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your crite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 the use of evaluation checklis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list can guide their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ing self and peer evaluations strengthens the students’ independence and judg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er evaluators  mu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given evaluation checklists (i.e. the checklist for literature circl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es and rig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ness does become an issue when the only difference between and A and a B is the amount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should reflect differences in rigor rather than differences in amount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cox suggests offering a choice of assignments correlated with their challenge level ( Blooms’ taxonom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1:11:15Z</dcterms:created>
  <dc:creator>STU</dc:creator>
  <dc:description/>
  <dc:language>en-US</dc:language>
  <cp:lastModifiedBy>Heather Richmond</cp:lastModifiedBy>
  <dcterms:modified xsi:type="dcterms:W3CDTF">2009-02-02T12:10:00Z</dcterms:modified>
  <cp:revision>14</cp:revision>
  <dc:subject/>
  <dc:title> The purpose of grading </dc:title>
</cp:coreProperties>
</file>